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4E3F-A0EF-46B9-A7E0-065B51AD0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2B75-DDA1-44D3-95CC-E1BEF1C81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4D28-40DB-4CDC-98A7-9D77676F0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AE0A-AC1F-4415-90BC-60A8DC144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1301-35BE-4427-9A31-F9E8FD131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6995-91A8-4447-A9A6-785626299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B48C-4DDB-4B3F-9EEF-E53C570D8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B8F2-0FEE-467F-8E46-9FF223059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289F-EA8A-4CFF-8A5E-ECE762C94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E224-E8C3-4B09-B5CE-B34C00710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C162-0112-426D-B35F-82B23C2D3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EC2F-575D-4D81-A395-5438A99FB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B40FD-58CA-4DFC-B06C-B222D026D8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n-Chip Sensors for Process, Aging, and Temperature Vari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Kaushik Mazumd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Jared Roberts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rmal Sens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952520" y="190512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oscillator can be stretched across a chip to sense temperature vari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 variation sensitivity should be minimiz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ur simulations achieved a sensitivity reduction of 10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Content Placeholder 4" descr=""/>
          <p:cNvPicPr/>
          <p:nvPr/>
        </p:nvPicPr>
        <p:blipFill>
          <a:blip r:embed="rId1"/>
          <a:stretch/>
        </p:blipFill>
        <p:spPr>
          <a:xfrm>
            <a:off x="146160" y="1670040"/>
            <a:ext cx="5041800" cy="3670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7" name=""/>
          <p:cNvGraphicFramePr/>
          <p:nvPr/>
        </p:nvGraphicFramePr>
        <p:xfrm>
          <a:off x="914400" y="5334120"/>
          <a:ext cx="3174840" cy="960480"/>
        </p:xfrm>
        <a:graphic>
          <a:graphicData uri="http://schemas.openxmlformats.org/drawingml/2006/table">
            <a:tbl>
              <a:tblPr/>
              <a:tblGrid>
                <a:gridCol w="712800"/>
                <a:gridCol w="608040"/>
                <a:gridCol w="609480"/>
                <a:gridCol w="608040"/>
                <a:gridCol w="636480"/>
              </a:tblGrid>
              <a:tr h="5461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cess Variation Sensitivit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d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# Stag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ader Siz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ndard Devi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2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ximu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n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28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80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nimu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0n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1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BTI/PBTI Sens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85800" y="1600200"/>
            <a:ext cx="8153280" cy="216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requency Sensor Measures Beat Frequenc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fferential Measurement Method Isolates NBTI/PBTI Degradation from other variation sour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762120" y="3429000"/>
            <a:ext cx="7731000" cy="2590920"/>
          </a:xfrm>
          <a:prstGeom prst="rect">
            <a:avLst/>
          </a:prstGeom>
          <a:ln w="0">
            <a:noFill/>
          </a:ln>
        </p:spPr>
      </p:pic>
      <p:sp>
        <p:nvSpPr>
          <p:cNvPr id="81" name="TextBox 7"/>
          <p:cNvSpPr/>
          <p:nvPr/>
        </p:nvSpPr>
        <p:spPr>
          <a:xfrm>
            <a:off x="5943600" y="6095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[4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dometer Outpu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1" descr="C:\Users\jar3qf\Downloads\beat_freq.png"/>
          <p:cNvPicPr/>
          <p:nvPr/>
        </p:nvPicPr>
        <p:blipFill>
          <a:blip r:embed="rId1"/>
          <a:stretch/>
        </p:blipFill>
        <p:spPr>
          <a:xfrm>
            <a:off x="762120" y="1295280"/>
            <a:ext cx="7848360" cy="49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76160"/>
            <a:ext cx="77724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alyzed variation issues and existing solu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howed simulation methodology and resul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uned oscillator circuit to isolate process variation from temperat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splayed how circuit can be used as a temperature sens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veloped NBTI/PBTI degradation detection metho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scussion of possible future wo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M. A. Alam, S. Mahapatra, "A comprehensive model of PMOS NBTI degradation," Microelectronics Reliability, vol. 45, pp. 71--81, 2005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Kanak Agarwal; Kanak Sani Nassif; “Characterizing process variation in nanometer CMOS”, Proceedings of the 44th annual conference on Design automation, June 04-08, 2007, San Diego, Californi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Agarwal, Kanak, “On-die sensors for measuring process and environmental variation in integrated circuits.” IBM Corps. Austin, TX. 2010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Tae-Hyoung Kim; Persaud, R.; Kim, C.H.; "Silicon Odometer: An On-Chip Reliability Monitor for Measuring Frequency Degradation of Digital Circuits," </a:t>
            </a: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Solid-State Circuits, IEEE Journal of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 , vol. 43, no. 4, pp. 874-880, April 2008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Wei Zhao; Liu, F.; Agarwal, K.; Acharyya, D.; Nassif, S.R.; Nowka, K.J.; Yu Cao; , "Rigorous Extraction of Process Variations for 65-nm CMOS Design," </a:t>
            </a: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Semiconductor Manufacturing, IEEE Transactions on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 , vol.22, no.1, pp.196-203, Feb. 2009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Kumar, R.; Kursun, V.; , "Temperature Variation Insensitive Energy Efficient CMOS Circuits in a 65nm CMOS Technology," </a:t>
            </a: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Circuits and Systems, 2006. MWSCAS '06. 49th IEEE International Midwest Symposium on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 , vol.2, no., pp.226-230, 6-9 Aug. 2006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761760" y="167652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isting Metho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st Circu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1" descr="C:\Users\jar3qf\AppData\Local\Microsoft\Windows\Temporary Internet Files\Content.IE5\32B9WUZD\MC900297177[1].wmf"/>
          <p:cNvPicPr/>
          <p:nvPr/>
        </p:nvPicPr>
        <p:blipFill>
          <a:blip r:embed="rId1"/>
          <a:stretch/>
        </p:blipFill>
        <p:spPr>
          <a:xfrm>
            <a:off x="4191120" y="1981080"/>
            <a:ext cx="42289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876920" y="17524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cal Process Vari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lobal Process Vari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erature Vari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BTI/PBTI Degrad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3" descr=""/>
          <p:cNvPicPr/>
          <p:nvPr/>
        </p:nvPicPr>
        <p:blipFill>
          <a:blip r:embed="rId1"/>
          <a:stretch/>
        </p:blipFill>
        <p:spPr>
          <a:xfrm>
            <a:off x="228600" y="4191120"/>
            <a:ext cx="4038480" cy="2028600"/>
          </a:xfrm>
          <a:prstGeom prst="rect">
            <a:avLst/>
          </a:prstGeom>
          <a:ln w="0">
            <a:noFill/>
          </a:ln>
        </p:spPr>
      </p:pic>
      <p:sp>
        <p:nvSpPr>
          <p:cNvPr id="49" name="TextBox 5"/>
          <p:cNvSpPr/>
          <p:nvPr/>
        </p:nvSpPr>
        <p:spPr>
          <a:xfrm>
            <a:off x="2057400" y="60199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[1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http://upload.wikimedia.org/wikipedia/commons/thumb/8/8c/Standard_deviation_diagram.svg/1000px-Standard_deviation_diagram.svg.png"/>
          <p:cNvPicPr/>
          <p:nvPr/>
        </p:nvPicPr>
        <p:blipFill>
          <a:blip r:embed="rId2"/>
          <a:stretch/>
        </p:blipFill>
        <p:spPr>
          <a:xfrm>
            <a:off x="304920" y="2057400"/>
            <a:ext cx="38098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isting Metho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600200"/>
            <a:ext cx="380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vice Arra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arge Are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ong Test Ti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ny I/O Pi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ing Oscill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oesn’t Measure Mismatch or Variation Gradi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n’t Measure PMOS/NMOS Variation Separatel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4191120" y="1828800"/>
            <a:ext cx="4647960" cy="3875040"/>
          </a:xfrm>
          <a:prstGeom prst="rect">
            <a:avLst/>
          </a:prstGeom>
          <a:ln w="0">
            <a:noFill/>
          </a:ln>
        </p:spPr>
      </p:pic>
      <p:sp>
        <p:nvSpPr>
          <p:cNvPr id="54" name="TextBox 5"/>
          <p:cNvSpPr/>
          <p:nvPr/>
        </p:nvSpPr>
        <p:spPr>
          <a:xfrm>
            <a:off x="6705720" y="57913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[2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nsor Circu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1" descr=""/>
          <p:cNvPicPr/>
          <p:nvPr/>
        </p:nvPicPr>
        <p:blipFill>
          <a:blip r:embed="rId1"/>
          <a:stretch/>
        </p:blipFill>
        <p:spPr>
          <a:xfrm>
            <a:off x="990720" y="1523880"/>
            <a:ext cx="7991280" cy="4267440"/>
          </a:xfrm>
          <a:prstGeom prst="rect">
            <a:avLst/>
          </a:prstGeom>
          <a:ln w="0">
            <a:noFill/>
          </a:ln>
        </p:spPr>
      </p:pic>
      <p:sp>
        <p:nvSpPr>
          <p:cNvPr id="57" name="TextBox 7"/>
          <p:cNvSpPr/>
          <p:nvPr/>
        </p:nvSpPr>
        <p:spPr>
          <a:xfrm>
            <a:off x="5486400" y="58672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[3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304920" y="4495680"/>
          <a:ext cx="2590560" cy="1067040"/>
        </p:xfrm>
        <a:graphic>
          <a:graphicData uri="http://schemas.openxmlformats.org/drawingml/2006/table">
            <a:tbl>
              <a:tblPr/>
              <a:tblGrid>
                <a:gridCol w="1022400"/>
                <a:gridCol w="734760"/>
                <a:gridCol w="833400"/>
              </a:tblGrid>
              <a:tr h="1940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rtual Gn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rtual Vd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5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ak Pull-down / Strong Pull-u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3.5 mV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91 V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4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ong Pull-down / Weak Pull-u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 mV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65.4 mV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752480"/>
          <a:ext cx="4191120" cy="1676520"/>
        </p:xfrm>
        <a:graphic>
          <a:graphicData uri="http://schemas.openxmlformats.org/drawingml/2006/table">
            <a:tbl>
              <a:tblPr/>
              <a:tblGrid>
                <a:gridCol w="698400"/>
                <a:gridCol w="698760"/>
                <a:gridCol w="698400"/>
                <a:gridCol w="698400"/>
                <a:gridCol w="698400"/>
                <a:gridCol w="698760"/>
              </a:tblGrid>
              <a:tr h="2793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MOS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MOS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MOS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MOS 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MOS 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cess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6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006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21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28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2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cess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54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8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04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07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08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cess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50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724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047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934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048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cess 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49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74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03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984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053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cess 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449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737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93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975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0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TextBox 9"/>
          <p:cNvSpPr/>
          <p:nvPr/>
        </p:nvSpPr>
        <p:spPr>
          <a:xfrm>
            <a:off x="5562720" y="1981080"/>
            <a:ext cx="31240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ed Monte Carlo to randomly vary Vt in transis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tracted frequency of ring oscillator for each active header/footer over various process ru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tracted statistical data from frequency 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Chart 6" descr=""/>
          <p:cNvPicPr/>
          <p:nvPr/>
        </p:nvPicPr>
        <p:blipFill>
          <a:blip r:embed="rId1"/>
          <a:stretch/>
        </p:blipFill>
        <p:spPr>
          <a:xfrm>
            <a:off x="450720" y="3651120"/>
            <a:ext cx="420048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Voltage Extra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105520" y="22096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andom variability and systematic shift can be measured from 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 equation derived from simulation to calculate device-level variations with oscillator frequenc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Content Placeholder 4" descr=""/>
          <p:cNvPicPr/>
          <p:nvPr/>
        </p:nvPicPr>
        <p:blipFill>
          <a:blip r:embed="rId1"/>
          <a:stretch/>
        </p:blipFill>
        <p:spPr>
          <a:xfrm>
            <a:off x="146160" y="1901880"/>
            <a:ext cx="511488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nsitivity Knob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Chart 4" descr=""/>
          <p:cNvPicPr/>
          <p:nvPr/>
        </p:nvPicPr>
        <p:blipFill>
          <a:blip r:embed="rId1"/>
          <a:stretch/>
        </p:blipFill>
        <p:spPr>
          <a:xfrm>
            <a:off x="4413240" y="1517760"/>
            <a:ext cx="4432320" cy="2676240"/>
          </a:xfrm>
          <a:prstGeom prst="rect">
            <a:avLst/>
          </a:prstGeom>
          <a:ln w="0">
            <a:noFill/>
          </a:ln>
        </p:spPr>
      </p:pic>
      <p:pic>
        <p:nvPicPr>
          <p:cNvPr id="68" name="Chart 6" descr=""/>
          <p:cNvPicPr/>
          <p:nvPr/>
        </p:nvPicPr>
        <p:blipFill>
          <a:blip r:embed="rId2"/>
          <a:stretch/>
        </p:blipFill>
        <p:spPr>
          <a:xfrm>
            <a:off x="4413240" y="4035600"/>
            <a:ext cx="4432320" cy="2676240"/>
          </a:xfrm>
          <a:prstGeom prst="rect">
            <a:avLst/>
          </a:prstGeom>
          <a:ln w="0">
            <a:noFill/>
          </a:ln>
        </p:spPr>
      </p:pic>
      <p:sp>
        <p:nvSpPr>
          <p:cNvPr id="69" name="TextBox 10"/>
          <p:cNvSpPr/>
          <p:nvPr/>
        </p:nvSpPr>
        <p:spPr>
          <a:xfrm>
            <a:off x="609480" y="1905120"/>
            <a:ext cx="335304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ircuit is more sensitive to process variation when header/footer sizing is minimiz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ircuit becomes more sensitive to process variation as number of oscillator stages incre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nsitivity Knob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Chart 5" descr=""/>
          <p:cNvPicPr/>
          <p:nvPr/>
        </p:nvPicPr>
        <p:blipFill>
          <a:blip r:embed="rId1"/>
          <a:stretch/>
        </p:blipFill>
        <p:spPr>
          <a:xfrm>
            <a:off x="146160" y="1670040"/>
            <a:ext cx="4962240" cy="3213000"/>
          </a:xfrm>
          <a:prstGeom prst="rect">
            <a:avLst/>
          </a:prstGeom>
          <a:ln w="0">
            <a:noFill/>
          </a:ln>
        </p:spPr>
      </p:pic>
      <p:sp>
        <p:nvSpPr>
          <p:cNvPr id="72" name="TextBox 6"/>
          <p:cNvSpPr/>
          <p:nvPr/>
        </p:nvSpPr>
        <p:spPr>
          <a:xfrm>
            <a:off x="5181480" y="1600200"/>
            <a:ext cx="39625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ircuit is more sensitive to process variation at higher V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 knobs to maximize sensitivity for process var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lacing many sensors around the chip exploits the increased sensitivity for fewer ring oscillator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1295280" y="5029200"/>
          <a:ext cx="3200400" cy="1066680"/>
        </p:xfrm>
        <a:graphic>
          <a:graphicData uri="http://schemas.openxmlformats.org/drawingml/2006/table">
            <a:tbl>
              <a:tblPr/>
              <a:tblGrid>
                <a:gridCol w="776520"/>
                <a:gridCol w="774720"/>
                <a:gridCol w="1649160"/>
              </a:tblGrid>
              <a:tr h="355680"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Maximize Process Variation Sensitivit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56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d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# Stag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ader/Footer Siz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3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ig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w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nimu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3T15:43:42Z</dcterms:created>
  <dc:creator>jar3qf</dc:creator>
  <dc:description/>
  <dc:language>en-US</dc:language>
  <cp:lastModifiedBy>jar3qf</cp:lastModifiedBy>
  <dcterms:modified xsi:type="dcterms:W3CDTF">2010-11-30T17:09:55Z</dcterms:modified>
  <cp:revision>14</cp:revision>
  <dc:subject/>
  <dc:title>Slide 1</dc:title>
</cp:coreProperties>
</file>